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BAD-6143-44EC-B215-B7F99B33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158-AB6D-411C-9B2B-72604908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124-2D6E-4E87-85EC-113D0107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E45-D003-4C4E-A26D-45FF895A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821E-97E6-4D98-893F-A5C312A6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E141C-E639-4AE0-865E-02D6DDD9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E7746-DD3C-4495-8F73-ADFF9D4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6B6A1-1AEC-4EDF-89D5-27D552D0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CA882-45DF-49F7-A657-834833E1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4EC25-4FD4-491C-9F25-D31BBCEB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39CD1-245D-40C0-B136-B9A7FA2A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53E-CFEA-4B59-B25F-2D8EB81E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2A407-BE7C-4F72-AB27-1B303F46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385FA-8299-4B83-8A67-8E4F294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0BA6D-418B-4A15-BC83-8E331A1D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8682E-AA14-410D-9892-823470F5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5EA2-11C5-4313-A286-C4BBD652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52DF-4FD2-4F47-9853-A5E3FA13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3ABE-701B-466C-977D-70A38F34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1098-E3A9-4486-9021-FC94DF98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AC21-8148-42E6-8DC5-367DC0FB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2147-5A69-4795-B00E-6AF984F2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D4B-CC06-4B5F-BCD2-22A6D12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277D-33AF-4DC8-8033-930505FA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BDA5-3BD1-4233-BD9B-F261455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0CCB-8053-4A53-8D09-5C2A339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2383-B1A2-47DD-AFA0-5603232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CEB8-D306-4E64-9434-A275F9DA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7C9B-AB68-4035-B9B9-860384D2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0D30-FEEC-45F1-A751-60B3714D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047E9-4E70-4727-A894-69CF7BA9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68883-2AD2-446B-9778-B96CFBA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09B4B-C046-4298-A813-3CBC878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809-63C0-465C-98F5-716019A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17483-0854-47B4-8F6D-808474D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36C08-2BED-46EE-A596-F0852B99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BC702-4CB7-4109-9320-0B5CE3B9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A11420-5D47-4FA3-B7FF-352BD03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87D30-FDD6-4EAA-9B85-B261B3B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179B0-7CC4-47A7-876D-3918FA3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A7BE1-E0D1-4BE8-8A20-5CEA3D87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4BB53-8C4B-4F0B-9E7F-21E1C4C1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20C51-C3EB-4404-A3B5-2493D996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5CC-3665-4738-92B3-D05F86C1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4FB-5302-4F96-848A-03E42347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FC3-9764-4EBD-80D9-7F70AFF9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87D-28D0-49C9-946E-CA27C601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347-4CB0-4C34-96DD-38B83EF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77D90-06CD-4378-9BFF-D0E5B7B70CF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5062C-CEB2-4D99-9401-4FEFD0823B5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C99F3-79D5-48D4-8FCF-3DA9D1815EB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687CA-4BBA-4C33-943A-DB72DB6C8DA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TED Talk with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efac9"/>
                </a:solidFill>
                <a:latin typeface="Constantia"/>
              </a:rPr>
              <a:t>Ernesto Sirol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91132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ow much money do half of the world’s population have to live on per day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sider the recent tragedies in the Mediterranean. Many people believe that the best solution is to help these people in their own countries so they are not forced to migrate.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Is there a right and wrong way to help someone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2296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971720"/>
            <a:ext cx="82296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did Ernesto decide to become an aid worker when he was 21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his job exactl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s would often send letters to Ernesto and to their boss. How did these letters differ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was Ernesto given the nickname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Tarma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cording to Ernesto, who was responsible for the mistakes in Afric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457200" y="365040"/>
            <a:ext cx="8229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the project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 Ernesto think of the landscape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the locals attitude to this project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n’t the Italian volunteers ask the local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 were the tomatoes different from the ones grown in Ital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om the context, what does the word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blund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was he proud of his project in Zambi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 Ernesto learn from this experience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457200" y="2152800"/>
            <a:ext cx="822960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om the context what do the words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donor countri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m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mustn’t you do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should you do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on’t you nee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’s the most important thing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his ide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ine that you are an aid worker in Africa, or South America, India etc. and write two letters: one to your boss and one to Ernest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ite a composition that summarizes Ernesto’s TED Tal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ine you want to become a foreign aid worker. Write a letter of application to the Peace Corps giving your qualifications, reasons for joining and how you would like to contribute to Peace Corps projects.  (http://www.peacecorps.gov/learn/wherepc/africa/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0:14:32Z</dcterms:created>
  <dc:creator>Paul Filippetto</dc:creator>
  <dc:description/>
  <dc:language>en-US</dc:language>
  <cp:lastModifiedBy>Paul Filippetto</cp:lastModifiedBy>
  <dcterms:modified xsi:type="dcterms:W3CDTF">2013-11-13T11:14:18Z</dcterms:modified>
  <cp:revision>11</cp:revision>
  <dc:subject/>
  <dc:title>The haves and have-nots </dc:title>
</cp:coreProperties>
</file>